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C67-8379-4266-BBC1-A7E2B373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803A-2F8A-4D66-863C-3B8AC9F1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7FD-045A-4966-9439-8C530AA2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EAA-65C1-43AB-A1CE-23324E83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D1D-4DEA-4B04-ADBE-C8512C67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833-9E04-4F6F-9C41-D28CFEB3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A4E3-2F58-46C8-9DA8-C2D85AD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C22-0ADF-4817-AEC9-F70B1124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E2F6-C607-4E69-A6B6-A5DD5C47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9A9-AFD4-446E-8EA9-C219FFEF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871-3D9E-4854-8419-989AB9B8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BD9-72B4-407F-ABC8-A2FABBDE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905120" y="64008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© 2004 Pearson Education Inc., publishing as Longman Publish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3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2208-A488-4283-A7C0-BDF4A39E2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9400" y="974520"/>
            <a:ext cx="76788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Times New Roman"/>
              </a:rPr>
              <a:t>The Effective Reader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(Updated Edition)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by D. J. Henry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505320" y="2860560"/>
            <a:ext cx="49528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pter 9: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t and Opin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werPoint Present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Gretchen Starks-Mart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. Cloud State University, M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© 2004 Pearson Education Inc., publishing as Longman Publish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oint of fact, computers make life miserabl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anation: “Miserable” makes this a general opin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028" descr="C:\Program Files\Microsoft Office\Clipart\smbusbas\BS00094_.wmf"/>
          <p:cNvPicPr/>
          <p:nvPr/>
        </p:nvPicPr>
        <p:blipFill>
          <a:blip r:embed="rId1"/>
          <a:stretch/>
        </p:blipFill>
        <p:spPr>
          <a:xfrm>
            <a:off x="5486400" y="3886200"/>
            <a:ext cx="21700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great grasslands of the West should not have been plowed under for crop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anation: The grassland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we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lowed under, but whether or not they “should not have been” is a matter of opin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4" descr="C:\Program Files\Microsoft Office\Office\Clipart\standard\stddir1\bd05175_.wmf"/>
          <p:cNvPicPr/>
          <p:nvPr/>
        </p:nvPicPr>
        <p:blipFill>
          <a:blip r:embed="rId1"/>
          <a:stretch/>
        </p:blipFill>
        <p:spPr>
          <a:xfrm>
            <a:off x="838080" y="304920"/>
            <a:ext cx="20034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12840"/>
            <a:ext cx="85773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Note Qualifiers to Identify Opinion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Beware of false facts, or statements presented as facts that are actually untru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A qualifier may express an absolute, unwavering opinion using words like </a:t>
            </a:r>
            <a:r>
              <a:rPr b="0" i="1" lang="en-US" sz="3200" spc="-1" strike="noStrike">
                <a:solidFill>
                  <a:srgbClr val="9a0000"/>
                </a:solidFill>
                <a:latin typeface="Verdana"/>
              </a:rPr>
              <a:t>always 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or </a:t>
            </a:r>
            <a:r>
              <a:rPr b="0" i="1" lang="en-US" sz="3200" spc="-1" strike="noStrike">
                <a:solidFill>
                  <a:srgbClr val="9a0000"/>
                </a:solidFill>
                <a:latin typeface="Verdana"/>
              </a:rPr>
              <a:t>nev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e is the only sure way to lose weight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” is a qualifier and makes this statement an opin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4" descr="C:\Program Files\Microsoft Office\Office\Clipart\standard\stddir4\ph01458j.jpg"/>
          <p:cNvPicPr/>
          <p:nvPr/>
        </p:nvPicPr>
        <p:blipFill>
          <a:blip r:embed="rId1"/>
          <a:stretch/>
        </p:blipFill>
        <p:spPr>
          <a:xfrm>
            <a:off x="3809880" y="4114800"/>
            <a:ext cx="1676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hink Carefully about Supposed “Facts”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Beware of opinions stated to sounds like fac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:  Phrases like “in truth,” “the truth of the matter,” or “in fact” are ex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truth, the earliest humans lived at the same time as dinosaurs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lanation: Fossil records and scientific research have proved this to be a false fac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C:\Program Files\Microsoft Office\Clipart\Pub60Cor\AN00010_.wmf"/>
          <p:cNvPicPr/>
          <p:nvPr/>
        </p:nvPicPr>
        <p:blipFill>
          <a:blip r:embed="rId1"/>
          <a:stretch/>
        </p:blipFill>
        <p:spPr>
          <a:xfrm>
            <a:off x="5334120" y="4419720"/>
            <a:ext cx="192708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91160"/>
            <a:ext cx="857736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       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aluate the Context of the Pass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exander the Great was one of the greatest military leaders in world his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 was born in Pella, Macedon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exact date of his birth was probably July 20 or 26, 356 B.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hortly before his 3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birthday, Alexander the Great d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ause of his death remains unknow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676520" y="5410080"/>
            <a:ext cx="6095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each statement a fact, opinion, or fact/opinion both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C:\Program Files\Microsoft Office\Office\Clipart\standard\stddir4\sy01061_.wmf"/>
          <p:cNvPicPr/>
          <p:nvPr/>
        </p:nvPicPr>
        <p:blipFill>
          <a:blip r:embed="rId1"/>
          <a:stretch/>
        </p:blipFill>
        <p:spPr>
          <a:xfrm>
            <a:off x="533520" y="228600"/>
            <a:ext cx="14382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91160"/>
            <a:ext cx="857736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        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aluate the Context of the Passag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/O  His name and title are factual, but the value word greatest is an opin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  This statement can be verified in historical recor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 The word probably makes this a statement of opin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  This statement can be checked and verified as tr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  This is a factual statement that something isn’t know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1028"/>
          <p:cNvSpPr/>
          <p:nvPr/>
        </p:nvSpPr>
        <p:spPr>
          <a:xfrm>
            <a:off x="1676520" y="5410080"/>
            <a:ext cx="6095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each statement a fact, opinion, or fact/opinion both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1029" descr="C:\Program Files\Microsoft Office\Office\Clipart\standard\stddir4\sy01061_.wmf"/>
          <p:cNvPicPr/>
          <p:nvPr/>
        </p:nvPicPr>
        <p:blipFill>
          <a:blip r:embed="rId1"/>
          <a:stretch/>
        </p:blipFill>
        <p:spPr>
          <a:xfrm>
            <a:off x="533520" y="228600"/>
            <a:ext cx="14382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433080"/>
            <a:ext cx="872964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Evaluate the Context of the Author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informed opin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developed by gathering and analyzing eviden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expert opinio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developed through much training and extensive knowledge in a given fiel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amples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ed opin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pping around for a c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ing an essay for a college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ert opini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tor’s diagnosis of an ill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 professor’s lecture on the econo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acts and Opin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fa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specific detail that can be proven as true based on objective evid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opinio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feeling, judgment, belief, or conclusion that cannot be proven true by objective evid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Objective pro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be one or more of the following: physical evidence, an eyewitness account, or the result of an accepted scientific meth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aluate the Context of the Sour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ples of good factual sourc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cal diction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lish handbo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ld At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4" descr="C:\Program Files\Microsoft Office\Office\Clipart\POWERPNT\book3.wmf"/>
          <p:cNvPicPr/>
          <p:nvPr/>
        </p:nvPicPr>
        <p:blipFill>
          <a:blip r:embed="rId1"/>
          <a:stretch/>
        </p:blipFill>
        <p:spPr>
          <a:xfrm>
            <a:off x="4495680" y="4038480"/>
            <a:ext cx="3497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hapter Re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fac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a specific detail that is true based on objective proo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opin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n interpretation, value judgment, or belief that cannot be proved or disprov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Objective proof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be physical evidence, an eyewitness account, or the result of an accepted scientific meth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informed opin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developed by gathering and analyzing evid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hapter Re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expert opin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developed through much training and extensive knowledge in a given fiel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fa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ates real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opin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nterprets real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act uses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unbias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or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pinion uses </a:t>
            </a:r>
            <a:r>
              <a:rPr b="0" lang="en-US" sz="2800" spc="-1" strike="noStrike">
                <a:solidFill>
                  <a:srgbClr val="9a0000"/>
                </a:solidFill>
                <a:latin typeface="Verdana"/>
              </a:rPr>
              <a:t>bias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or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2284920"/>
            <a:ext cx="8577360" cy="362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66"/>
                </a:solidFill>
                <a:latin typeface="Verdana"/>
              </a:rPr>
              <a:t>Complete the Chapter Review, Application Exercises, Review Tests, and Mastery Tests for Chapter 9.</a:t>
            </a:r>
            <a:br>
              <a:rPr sz="4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Remember to complete your scorecard for the Review Tests in this chapter.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71560" y="859680"/>
            <a:ext cx="816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861480"/>
            <a:ext cx="85773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parating Fact from Opin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Know the traits of facts and opinions.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Fact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pinach is a source of ir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Opinion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Spinach tastes awfu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4" descr="C:\Program Files\Microsoft Office\Office\Clipart\Pub40\lttcleaf.wmf"/>
          <p:cNvPicPr/>
          <p:nvPr/>
        </p:nvPicPr>
        <p:blipFill>
          <a:blip r:embed="rId1"/>
          <a:stretch/>
        </p:blipFill>
        <p:spPr>
          <a:xfrm>
            <a:off x="1905120" y="4648320"/>
            <a:ext cx="42670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acts and Opin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Fa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s re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 be ver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sented with unbiased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inach is a form of iron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Verdana"/>
              </a:rPr>
              <a:t>Opin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prets re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n NOT be ver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esented with value w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inach tastes awful.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560" y="921960"/>
            <a:ext cx="872964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k Questions to Identify Fact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the statement be proved or demonstrated to be tru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the statement be observed in practice or operatio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the statement be verified by witnesses, manuscripts, or document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C:\Program Files\Common Files\Microsoft Shared\Clipart\cagcat50\BS01580_.wmf"/>
          <p:cNvPicPr/>
          <p:nvPr/>
        </p:nvPicPr>
        <p:blipFill>
          <a:blip r:embed="rId1"/>
          <a:stretch/>
        </p:blipFill>
        <p:spPr>
          <a:xfrm>
            <a:off x="6477120" y="457200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act or Opinion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A spinning class is a group exercise program of about 45 minutes riding on a stationary bik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A spinning class is a form of tortu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4" descr="C:\Program Files\Microsoft Office\Office\Clipart\standard\stddir4\pe01783_.wmf"/>
          <p:cNvPicPr/>
          <p:nvPr/>
        </p:nvPicPr>
        <p:blipFill>
          <a:blip r:embed="rId1"/>
          <a:stretch/>
        </p:blipFill>
        <p:spPr>
          <a:xfrm>
            <a:off x="4114800" y="4114800"/>
            <a:ext cx="19224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act or Opinion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A spinning class is a group exercise program of about 45 minutes riding on a stationary bike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an be verified by going to a class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A spinning class is a form of torture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Some people may enjoy the class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4" descr="C:\Program Files\Microsoft Office\Office\Clipart\Pub40\exrcbik.wmf"/>
          <p:cNvPicPr/>
          <p:nvPr/>
        </p:nvPicPr>
        <p:blipFill>
          <a:blip r:embed="rId1"/>
          <a:stretch/>
        </p:blipFill>
        <p:spPr>
          <a:xfrm>
            <a:off x="4824360" y="4913280"/>
            <a:ext cx="195732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560" y="312840"/>
            <a:ext cx="872964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Note Biased Words to Identify Opinion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Verdana"/>
              </a:rPr>
              <a:t>Look for biased words.  They express opinions, value judgments and interpretations and are often loaded with emo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e: A sentence can include both facts and opin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iased Word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w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auti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gu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vori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ight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rr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s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abl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8:58:37Z</dcterms:created>
  <dc:creator>Gretchen A. Starks-Martin</dc:creator>
  <dc:description/>
  <dc:language>en-US</dc:language>
  <cp:lastModifiedBy>cti</cp:lastModifiedBy>
  <dcterms:modified xsi:type="dcterms:W3CDTF">2015-11-18T14:34:51Z</dcterms:modified>
  <cp:revision>21</cp:revision>
  <dc:subject/>
  <dc:title>The Effective Reader      by D. J. Henry</dc:title>
</cp:coreProperties>
</file>